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C9B-96AF-441A-8587-BC6568F6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7B5-BDC7-451B-A19D-12415A4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04D-2EFE-40F6-A307-7A966636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681-1CF1-494F-B0E3-57F42B8E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682-73C3-456D-A1DA-B617421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23B-E29B-4449-B2F1-23491EA3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2F9-F683-4CCB-876C-4E76FE3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832-C9A1-4B5F-8AEC-DC1B2DD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CC3-741E-4612-972D-E69FDC72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668-8694-417F-A15A-286C076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594-13A4-4972-A2CB-D1AC800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F64-4522-459F-B06F-FE71695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24EE-F78F-421D-98B0-9BB8019B15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 Low-cost Extendable Framework for Embedded Smart Ca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ecurity Syste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process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exibility and portabl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ss Cost and comp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security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ert syst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mized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oID Face Datab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hang Yu, “Research on High Level Model and Performance Estimation” Southeast University PHD thesis, 2007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microcontroller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esko, J., "Winning with wireless," Industry Week, 252(6), Available ProQuest, 200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tainable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Proposed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iagra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efinit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Application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Merit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implement image-recognition techniques that can provide the important functions required by advanced intelligent Car Security, to avoid vehicle theft and protect the usage of unauthenticated us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able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t able to predict information if Car was stol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ditional car security systems rely on many sensors and cost a lo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ysical Ke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arm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ach to the owner if some one tries to sto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mated functions through image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urity maintenance by behavior 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mobile communication for entire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PS module obtains the precise locality by parsing received GPS sig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43"/>
          <p:cNvGrpSpPr/>
          <p:nvPr/>
        </p:nvGrpSpPr>
        <p:grpSpPr>
          <a:xfrm>
            <a:off x="304920" y="1219320"/>
            <a:ext cx="8610480" cy="5410080"/>
            <a:chOff x="304920" y="1219320"/>
            <a:chExt cx="8610480" cy="5410080"/>
          </a:xfrm>
        </p:grpSpPr>
        <p:sp>
          <p:nvSpPr>
            <p:cNvPr id="52" name="Rounded Rectangle 3"/>
            <p:cNvSpPr/>
            <p:nvPr/>
          </p:nvSpPr>
          <p:spPr>
            <a:xfrm>
              <a:off x="30492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wer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ounded Rectangle 4"/>
            <p:cNvSpPr/>
            <p:nvPr/>
          </p:nvSpPr>
          <p:spPr>
            <a:xfrm>
              <a:off x="2535120" y="2982960"/>
              <a:ext cx="196344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icrocontrol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ounded Rectangle 5"/>
            <p:cNvSpPr/>
            <p:nvPr/>
          </p:nvSpPr>
          <p:spPr>
            <a:xfrm>
              <a:off x="2624040" y="4426200"/>
              <a:ext cx="1874880" cy="960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r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ounded Rectangle 6"/>
            <p:cNvSpPr/>
            <p:nvPr/>
          </p:nvSpPr>
          <p:spPr>
            <a:xfrm>
              <a:off x="393480" y="434520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gnition Control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ounded Rectangle 7"/>
            <p:cNvSpPr/>
            <p:nvPr/>
          </p:nvSpPr>
          <p:spPr>
            <a:xfrm>
              <a:off x="485640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S2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7443360" y="4425480"/>
              <a:ext cx="134568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"/>
            <p:cNvPicPr/>
            <p:nvPr/>
          </p:nvPicPr>
          <p:blipFill>
            <a:blip r:embed="rId2"/>
            <a:stretch/>
          </p:blipFill>
          <p:spPr>
            <a:xfrm>
              <a:off x="7532640" y="2661840"/>
              <a:ext cx="138276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" descr=""/>
            <p:cNvPicPr/>
            <p:nvPr/>
          </p:nvPicPr>
          <p:blipFill>
            <a:blip r:embed="rId3"/>
            <a:stretch/>
          </p:blipFill>
          <p:spPr>
            <a:xfrm>
              <a:off x="393840" y="5707800"/>
              <a:ext cx="1505520" cy="9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ounded Rectangle 12"/>
            <p:cNvSpPr/>
            <p:nvPr/>
          </p:nvSpPr>
          <p:spPr>
            <a:xfrm>
              <a:off x="2535120" y="170028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S Rece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ounded Rectangle 13"/>
            <p:cNvSpPr/>
            <p:nvPr/>
          </p:nvSpPr>
          <p:spPr>
            <a:xfrm>
              <a:off x="7353360" y="1219320"/>
              <a:ext cx="14284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SM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3338640" y="5707080"/>
              <a:ext cx="1873080" cy="550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558ed5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M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Straight Arrow Connector 16"/>
            <p:cNvCxnSpPr/>
            <p:nvPr/>
          </p:nvCxnSpPr>
          <p:spPr>
            <a:xfrm>
              <a:off x="217800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4" name="Straight Arrow Connector 23"/>
            <p:cNvCxnSpPr/>
            <p:nvPr/>
          </p:nvCxnSpPr>
          <p:spPr>
            <a:xfrm>
              <a:off x="449892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5" name="Straight Arrow Connector 24"/>
            <p:cNvCxnSpPr/>
            <p:nvPr/>
          </p:nvCxnSpPr>
          <p:spPr>
            <a:xfrm>
              <a:off x="6729480" y="3463920"/>
              <a:ext cx="7149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6" name="Straight Arrow Connector 26"/>
            <p:cNvCxnSpPr/>
            <p:nvPr/>
          </p:nvCxnSpPr>
          <p:spPr>
            <a:xfrm flipV="1">
              <a:off x="8067960" y="218088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7" name="Straight Arrow Connector 29"/>
            <p:cNvCxnSpPr/>
            <p:nvPr/>
          </p:nvCxnSpPr>
          <p:spPr>
            <a:xfrm flipH="1">
              <a:off x="3516120" y="3944880"/>
              <a:ext cx="360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8" name="Straight Arrow Connector 31"/>
            <p:cNvCxnSpPr/>
            <p:nvPr/>
          </p:nvCxnSpPr>
          <p:spPr>
            <a:xfrm flipV="1">
              <a:off x="8156880" y="386352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9" name="Straight Arrow Connector 33"/>
            <p:cNvCxnSpPr/>
            <p:nvPr/>
          </p:nvCxnSpPr>
          <p:spPr>
            <a:xfrm flipH="1" flipV="1">
              <a:off x="2177280" y="4905000"/>
              <a:ext cx="44676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0" name="Straight Arrow Connector 38"/>
            <p:cNvCxnSpPr/>
            <p:nvPr/>
          </p:nvCxnSpPr>
          <p:spPr>
            <a:xfrm flipH="1">
              <a:off x="3516120" y="2662200"/>
              <a:ext cx="3600" cy="321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1" name="Curved Connector 42"/>
            <p:cNvCxnSpPr/>
            <p:nvPr/>
          </p:nvCxnSpPr>
          <p:spPr>
            <a:xfrm flipV="1">
              <a:off x="2089080" y="6108480"/>
              <a:ext cx="1072080" cy="79920"/>
            </a:xfrm>
            <a:prstGeom prst="curvedConnector5">
              <a:avLst>
                <a:gd name="adj1" fmla="val 49983"/>
                <a:gd name="adj2" fmla="val 49773"/>
                <a:gd name="adj3" fmla="val 49983"/>
              </a:avLst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onsists of PC memory unit it stores the different driver imag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DS (face detection subsystem) is used to detect the face of the driver and compare it with the predefined im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image doesn’t match then the information is send to the owner through M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wner can trace the location through G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y this system owner can identify the theft image as well as the location of the ca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ompon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icrocontro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ower suppl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ypad se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SM modu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mer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gnition unit | Driver un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Too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il C cross compiler 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lash magic programmer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cad hardware design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6.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lab7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gu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bedded 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1:16:03Z</dcterms:created>
  <dc:creator>Electronics Projects</dc:creator>
  <dc:description>Electronics Projects</dc:description>
  <dc:language>en-US</dc:language>
  <cp:lastModifiedBy>admin</cp:lastModifiedBy>
  <dcterms:modified xsi:type="dcterms:W3CDTF">2011-08-26T11:08:43Z</dcterms:modified>
  <cp:revision>0</cp:revision>
  <dc:subject>Electronics Projects</dc:subject>
  <dc:title>ECE IEEE Projects</dc:title>
</cp:coreProperties>
</file>